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F7E-58BE-487E-A85C-19F65587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CD1-395E-4C02-95F8-76046155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6BD3-C962-4F9C-920D-651BCB44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914-C392-48EB-9257-4EDD92D9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8532-76F1-4BB9-B3CD-ACD76916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4DD-1C4B-457B-97FB-F6923F16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15D-B925-46AB-B3D9-7DC2C10E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6B9-6BC6-472C-A65F-F5949522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607-5430-472A-8C41-E7190099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524-D6E4-41A2-8220-4FE9DD35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E79-A098-4A00-A2BB-DCCFADA0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CDC-77ED-4627-9C0C-A2BA4E20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C59B-FD0B-45BA-8C14-0431F2400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kylar Gar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 st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http://t0.gstatic.com/images?q=tbn:ANd9GcS3YH79BmjE0DROI72xNkZ9CSphDemxcE6DuXjjokSPBnqneR7q07j4KK2P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http://t3.gstatic.com/images?q=tbn:ANd9GcT_uNy6Mx0C0TCb3172wKSTBC2nX-wIge2FAZ3voeMCbRWt09ltXg"/>
          <p:cNvPicPr/>
          <p:nvPr/>
        </p:nvPicPr>
        <p:blipFill>
          <a:blip r:embed="rId1"/>
          <a:stretch/>
        </p:blipFill>
        <p:spPr>
          <a:xfrm>
            <a:off x="0" y="228600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ensu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almost surrounded by wa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1.gstatic.com/images?q=tbn:ANd9GcSVXu3dQG1hmeWpER89dfrfQa1VYhka-sALCg0Wl8pDN615i2QE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at and conduct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t0.gstatic.com/images?q=tbn:ANd9GcSSF2ZzJ3qmoFWvgnHjIGF-YzteOhTkk6fm-rXhYnxE2WG_OCjNxw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lawmaking  place where people vote  on issues that helped there  c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t0.gstatic.com/images?q=tbn:ANd9GcSJUeM-_kRCxkZUrq_TS0R2sgICyv8RDcK5HO9VkDIwXgzOaIRBbw"/>
          <p:cNvPicPr/>
          <p:nvPr/>
        </p:nvPicPr>
        <p:blipFill>
          <a:blip r:embed="rId1"/>
          <a:stretch/>
        </p:blipFill>
        <p:spPr>
          <a:xfrm>
            <a:off x="-1139760" y="2505240"/>
            <a:ext cx="103629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143000" y="2133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erson who has curtain rights and responsibilities to his or her count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t1.gstatic.com/images?q=tbn:ANd9GcQXOtSMrwUam9SvLWoyUxV1rJ51Nrote6zwjNJUCZrg2dCIPP0fKA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part from Greec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http://t1.gstatic.com/images?q=tbn:ANd9GcQTCqP7l54g_i_ZYNgxzN47bQgMdzQyUhwiBDi5EiWBkfuPqzd4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t3.gstatic.com/images?q=tbn:ANd9GcTWOC9SUfSX_Y-skdLqegjiX0Vc4A5QfptHyaGWIslbozMrGj-IpTZZu9k7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re evidence and make decisions an count of la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http://t1.gstatic.com/images?q=tbn:ANd9GcRYqoGiqnIdjQ130MSjIMbga-pPRkhP6p9aE1bLKXbviXtOLpGy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for one rul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http://t2.gstatic.com/images?q=tbn:ANd9GcTED0nbbbNf_uFXTNn5-Y5cfQ-QTqurrF6gqzMMPFhVZC72tR8ATA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42:57Z</dcterms:modified>
  <cp:revision>92</cp:revision>
  <dc:subject/>
  <dc:title>Ancient Greece</dc:title>
</cp:coreProperties>
</file>